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4C8-5D6F-48EA-A987-91C07377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739-836F-49D4-B31C-7B4E79F2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69D84-6653-4B37-9B5B-F93D159C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2C252-C0FA-4DD5-B853-03629C72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58E3C-D4C8-455A-83E6-EEDB643F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013F9-E581-4490-8363-B4E71989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F9431-BC32-4354-844F-D62CCF4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A0B41-9EDD-4CC8-A16E-5620CC6D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BBB55-23BC-4ADF-AFD2-E2C022CF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24A0D-3EFC-4210-BC30-3A81C57F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77E14-70DE-4E80-BE40-5A69E4F3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D85-1ABD-46F0-8D5C-E7D7D71A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309-4D73-41F4-A828-DE6E0C3E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14C2-E831-4E0E-84D5-EFBE7E3B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2014-374A-44C4-BC54-2DAAEA2C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81A7-B28F-484D-BCB3-711B2CD6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27A1-4CB0-44E6-94BA-00472766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52D1-1133-4919-A61A-07748A8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5AAB-6903-470D-8C9F-F08D2262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7D33-1A74-4E2A-9AD2-5D0A83A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298-49B4-465E-8EC8-00E500E4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6A2D-E437-4CA5-B774-A8767A9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16BD-64AB-436B-8AAB-B2E7D308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0988-E503-4FAD-B44E-8C0591AA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7032-13DF-48A7-A4B1-ACE2DAAA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3C95-4E5D-4FD1-9B30-9C508E5C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71511-9A5E-4CB7-8373-D442A78D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F488-3DEA-437C-B111-6C3900B0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C6D4-CD74-46E5-9580-21F09D54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7E29-581A-4CF8-BFA3-03261E68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858B-4CFD-409E-A844-FEE9471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A05-384E-4B14-8CC9-C0A822C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6024-0F28-46C8-8BEB-B4BDEB35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0EDD-DCEF-42F0-AF14-42747ECB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3899-6407-4D56-95A5-D76E6CC3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CB34-3C65-48A7-986C-EE876703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2F62-C3EC-441A-9E16-0D01B05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5E92-E174-4C65-A9C2-B24BE060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9B662-B263-4DF1-9AB0-AE254F75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2DC73-81A6-4C30-9D72-731EB774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4B774-6566-4263-948B-13682AC2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468D-1A40-4BA8-9212-DA4E6149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935-8B93-40EE-9F6B-30F407E7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AF7D-DAC8-42A8-8DBF-C9AB896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126E-60E3-425B-9C64-11BD5EBD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F756-64BC-4277-8B93-0E3FB877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FFFEF-9F3A-4980-9A8E-4BDF1D41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D306-E951-45EB-AEAE-5621720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529B-AD2D-4E26-811B-11613B6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CF92-C7F5-4719-A8B1-481A897F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78B5-03D2-4724-9D93-4C093682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74D7-9070-4C00-B6ED-CFE2CBC8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A41B3-557C-4528-B221-1C29AEB9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37C-BC06-461D-BD4F-7EB5EEDE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1884F-5E5F-45A6-9B27-1B1E2818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21762-C6DC-4E74-B546-35D7A797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687F-05F9-482A-A50F-6437D4C4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61F9E-3F41-4E7C-A174-C73DC737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EE63-0602-4D13-A2A5-A281619C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5071-087B-4069-A14F-0B12BF88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5042-A542-4EC9-98D7-8915C96E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7F098-E067-4AA8-9B35-C59B70D8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E026-F177-45EF-88E4-53F609CA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B156-045A-4C7A-879C-D408E72B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172-45B0-4C93-8150-79863D62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4823E-41F8-499D-A3FD-6DD831F4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483A9-ED05-4CDE-8D94-8C19B48F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80466-BE07-44B7-8AAC-5BAC3225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FFF76-52A9-4CC2-872E-BD0B07C5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412E6-A138-491C-BF88-00453802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F3B3-A1DD-4D26-961E-86BACB22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BC694-5D4E-4ECB-AE6B-06D8DC72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33712-5688-4751-9884-CB7141D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6A31B-1602-4256-AF45-12EC01F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4236-2BCE-41AD-886B-FC948A8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E1B-77E4-4418-81DF-EBD7595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D73B4-3D01-4096-A201-D8C4BB98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82D5B-C0F6-417F-A067-EA796E35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D5804-C30A-4E15-8093-02291C62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57AC4-AB77-4A88-AD3C-9F875E0A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3C62-D3FE-4CCF-85DB-21C2381E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E319E-DBCD-4EAF-9438-F8A0356E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77B3A-EB8E-448C-B270-10B426A4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83944-08A8-4A1D-9CAB-625EB560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8C555-4C60-4A60-A6ED-43A92412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374E5-7348-442E-8FCD-75BB39CC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113-AD69-450B-9E99-0AE3F32A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1D40-E514-4731-AE8B-4F42FFD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17327-F77B-4161-A31F-03B0A5D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D90A3-A589-40F5-B4BD-28AD0D7E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46005-4DDB-46D1-86F1-0FA37E7A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B2BDD-166F-496B-937B-D482DE25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B9959-6F05-4E2E-9E2E-0388F26A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6AB13-D3AF-4312-974E-9891B52D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D1455-DB5D-43B6-B0A0-404D458E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D32B-C61B-44A7-929A-570B66DE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AD566-2E6D-4FFA-97BA-1689DDBD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BB7-5870-4339-919D-6D0351D1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C287-5C1F-4E69-8B70-D9B3263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43CCE-D97C-458D-854E-48965FFD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0922-B30A-4408-83A5-56F1176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E59CB-544E-47F5-BA66-D4BD2070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4E538-1A1A-44F3-BA7D-A64E7243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BC8A5-6503-4220-BBF1-730DB790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6D3C3-E617-4A12-8491-CEDCF5ED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FFA4D-80A5-4E83-B4C0-7301B982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F90BC-C89E-4715-8D24-6A2C6061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EF910-A26E-43C6-A6C0-8ED52347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E199-2311-4B77-8509-0B9DB2A326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D060-4162-4F49-A9C6-FF795FC9032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976D-7715-43F3-9740-2BF03F2B2D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DFC-70E6-4994-8530-7F5746D6D5D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E8CD-A4F9-4632-B6AB-57C0FE81C8E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D235-0052-4C4F-A395-0BB3605C8F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40CB-060E-4003-9383-2E95F64673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F73-5A29-4B5C-AA9B-E48D3FDE67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03A2-DEEE-40B2-951D-6D546761650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Por Kendra Lon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5524560" y="0"/>
            <a:ext cx="3619440" cy="4356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2341440" y="0"/>
            <a:ext cx="3144960" cy="4343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mpieza en 1898 y termina con la Guerra Civil de 193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ra compuesto por escritores, artistas, arquitectos e intelectua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Miguel de Unamuno, Picasso y Antoni Gaudí eran algunos de los mas famosos de la generació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Hacían un sentido de orgullo que la gente española había perdid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ran opuestos a la Restablecimi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Tenían sentimientos y opiniones diferentes como se pueden reparar Españ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Ángel Ganiv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Pio Baroj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Azorí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Benito Pérez Galdó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4671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voluntad (1902), Antonio Azorín (1903), las confesiones de un pequeño filosofo (190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alma castellana (1900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Una hora de España (192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Tierra Vasca (1900-1909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4e3b30"/>
                </a:solidFill>
                <a:latin typeface="Franklin Gothic Book"/>
              </a:rPr>
              <a:t>La Casa de Aizgorri (1900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4e3b30"/>
                </a:solidFill>
                <a:latin typeface="Franklin Gothic Book"/>
              </a:rPr>
              <a:t>El Mayorazgo de Labraz (1903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Lucha por La Vida (1922-192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l árbol de la ciencia (1911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3182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Granada la bella (1896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conquista del reino de Maya, por el ultimo conquistador español, Pio Cid (1897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l escultor de su alma (1906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6019920" y="3271680"/>
            <a:ext cx="31240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Dona Perfecta (1876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Marínela (1878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Fortunata y Jacinta (1886-7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Ángel Guerra (1891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31338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59:33Z</dcterms:created>
  <dc:creator>Kendra Long</dc:creator>
  <dc:description/>
  <dc:language>en-US</dc:language>
  <cp:lastModifiedBy>Kendra Long</cp:lastModifiedBy>
  <dcterms:modified xsi:type="dcterms:W3CDTF">2008-09-29T04:58:31Z</dcterms:modified>
  <cp:revision>13</cp:revision>
  <dc:subject/>
  <dc:title>La Generación 98</dc:title>
</cp:coreProperties>
</file>